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A8A-08D2-4E77-9F91-843F36B3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527-86C7-41C7-B6DD-1E39D771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4D0-18CD-44EF-AA42-54156EF6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6AF-A52F-458D-832F-2DFE189C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29D-9BA9-4DFF-BECE-9164095C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8BA-ED7E-4990-BCB2-5E8EDA98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D7F-7B1F-4B2C-A5F8-96D1575F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E02-8168-4850-9BFB-BF4321C2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4BA-181E-4EE8-827D-AA86FA4A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6DB-6A90-4B1F-A292-70A86D0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542-B59B-463F-B68A-A574EF6F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443-B07C-4A89-AFD5-343CF9D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8F7BA-BC91-4682-8F33-65BB8855BD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13E11-DD4C-4F9B-8352-9C881ED00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argyle@nationalcapitalregionymca-ywca.ca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merivale@nationalcapitalregionymca-ywca.ca" TargetMode="External"/><Relationship Id="rId3" Type="http://schemas.openxmlformats.org/officeDocument/2006/relationships/hyperlink" Target="http://www.ymca-ywca.ca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peningSlide_forEEN.jpg"/>
          <p:cNvPicPr/>
          <p:nvPr/>
        </p:nvPicPr>
        <p:blipFill>
          <a:blip r:embed="rId1"/>
          <a:stretch/>
        </p:blipFill>
        <p:spPr>
          <a:xfrm>
            <a:off x="-4680" y="0"/>
            <a:ext cx="9196200" cy="691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476600" y="4689360"/>
            <a:ext cx="454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Centre </a:t>
            </a:r>
            <a:r>
              <a:rPr b="1" lang="fr-CA" sz="2200" spc="-1" strike="noStrike">
                <a:solidFill>
                  <a:srgbClr val="ffffff"/>
                </a:solidFill>
                <a:latin typeface="Georgia"/>
              </a:rPr>
              <a:t>d’accès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en emploi du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123840" y="533520"/>
            <a:ext cx="854064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ervices pour des employ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52440" y="1676520"/>
            <a:ext cx="63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Distribution et promotion des offres d’emplois s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fr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ccès aux candidat(e)s présélectionné(e)s pour 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sibilité d’une subvention de salaire durant la période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sibilité d’une prime pour embaucher un app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articipation aux Foires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ssistance avec rétention des employ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Georgia"/>
              </a:rPr>
              <a:t>Nos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lieux et </a:t>
            </a:r>
            <a:r>
              <a:rPr b="1" lang="fr-CA" sz="3600" spc="-1" strike="noStrike">
                <a:solidFill>
                  <a:srgbClr val="ffffff"/>
                </a:solidFill>
                <a:latin typeface="Georgia"/>
              </a:rPr>
              <a:t>heures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d’ouv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52440" y="1814400"/>
            <a:ext cx="617544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180, avenue Argyle, 4ième é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Tél: 613-788-500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argy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www.ymca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Lundi-Mardi ~ 8h30 - 16:3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Mercredi-Jeudi ~ 8h30 - 19: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Vendredi ~ 8h30 - 16:00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Nos lieux et heures d’ouv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52440" y="1814400"/>
            <a:ext cx="645804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Centre d’achats Merivale, 2ème é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Tél: 613-688-2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meriva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www.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Lundi - Mardi ~ 8h30 – 19h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Mercredi - Jeudi ~ 8h30 – 16h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Vendredi ~ 8h30 – 4h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eorgia"/>
              </a:rPr>
              <a:t>Qu’est-ce que le Centre d’a</a:t>
            </a:r>
            <a:r>
              <a:rPr b="1" lang="fr-CA" sz="2800" spc="-1" strike="noStrike">
                <a:solidFill>
                  <a:srgbClr val="ffffff"/>
                </a:solidFill>
                <a:latin typeface="Georgia"/>
              </a:rPr>
              <a:t>ccès</a:t>
            </a:r>
            <a:r>
              <a:rPr b="1" lang="en-US" sz="2700" spc="-1" strike="noStrike">
                <a:solidFill>
                  <a:srgbClr val="ffffff"/>
                </a:solidFill>
                <a:latin typeface="Georgia"/>
              </a:rPr>
              <a:t> en emploi du 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52440" y="1979640"/>
            <a:ext cx="61754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Le CAE est un programme sans frais, qui aide les individus avec leurs recherche d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Le CAE est un programme Emploi Ontario et est financé par le gouvernement de l’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Il offre un variété de services pour aider les Ontariens à trouver un emploi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Il fournit divers services aux employeurs autorises à recruter en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Services d’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52440" y="2108160"/>
            <a:ext cx="63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1) Ressources e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2) Consultation en 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3) Jumelage travailleur-emploi et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4) Maintien de l’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formation &amp; Orientation (I&amp;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2440" y="1676520"/>
            <a:ext cx="630540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Centres de res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Accès aux postes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Ordinateurs avec l’accès Internet et un logiciel pour créer un 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Téléphone, imprimeur, télécopieur et photocop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Variété d’ateliers concernant la recherche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Information concernant les programmes d’apprenti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Recommandation aux autres programmes communau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Aide avec les CV et lettres de pré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Participation aux foires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Distribution des offres d’emploi par cour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*Il n’y a pas de critères d’éligibilité pour ce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Recherche/consultation d’emplo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52440" y="2108160"/>
            <a:ext cx="63054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Critères d’éligibilit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Pas aux études à temps plein (plus de 20 heures par sema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Sans emploi (ou moins de 20 heures par semai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Éligible à travailler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Résident(e) de l’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Recherche d’empl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2440" y="1676520"/>
            <a:ext cx="63054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Soutien individualis</a:t>
            </a: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é</a:t>
            </a: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 et rencontre avec un(e) consultant(e) en emplo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ssistance et accompagnement dans le développement de CV, recherche d’emploi, stratégies de réseautage, préparation aux entrevues, exploration de carrières, et beaucoup p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Clarification en matière d’emploi et de 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ide a établir des objectifs a cour et a long term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Soutien et orientation</a:t>
            </a:r>
            <a:r>
              <a:rPr b="0" lang="fr-CA" sz="19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ux programmes du Ministère comme Deuxième carriè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ccès aux programmes Clés en mai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*Pour ceux qui sont éligib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assez au Centre de Ressour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ppelez-nous ou envoyez un courriel pour fixer un rendez-v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Chaque jour il y’a un(e) Consultant(e) en emploi disponible pour vous rencontrer sans rendez-vous mais sur base de premier arrivé, premier ser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Les Consultant(e) s en emploi vous orienteront vers les services les plus appropri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ent s’inscr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52440" y="1676520"/>
            <a:ext cx="630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umelage emploi et aide au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2440" y="1676520"/>
            <a:ext cx="630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Conseil individuel avec un agent(e) de développement d’emploi en matière de recherche d’emploi, réseautag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Information sur la sante et sécurité au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et les droits des travailleur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ide a jumeler les chercheurs d’emploi avec les employeurs potenti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ssistance a la recherche d’un apprentissage et possibilité d’une bourse d’apprentissage/stage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Maintien de l’emploi/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2440" y="2108160"/>
            <a:ext cx="6305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Soutien 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à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trouver un emploi durable ou emploi avec possibilit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é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d’avan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Accès 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à 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des mentors/format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Assurer le suivi de la relation avec le m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Développer un plan de soutien pour améliorer l'employabilité et le maintien de l'empl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Faire le suivi des s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50:59Z</dcterms:created>
  <dc:creator>Andrew Jordan</dc:creator>
  <dc:description/>
  <dc:language>en-US</dc:language>
  <cp:lastModifiedBy>aholmes</cp:lastModifiedBy>
  <dcterms:modified xsi:type="dcterms:W3CDTF">2011-07-08T18:26:01Z</dcterms:modified>
  <cp:revision>31</cp:revision>
  <dc:subject/>
  <dc:title>Slide 1</dc:title>
</cp:coreProperties>
</file>